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DF3-2096-46AC-AE85-5A511979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655-3695-43BD-A349-D3F094ED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828-3C53-49A7-A4E2-6B0F4AB5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F6D-72B8-4121-89DD-9E72A3C2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7FF-24E0-4DC0-9036-5E3C4021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4EE-1AF3-47CE-AF76-E8FD0952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D04-0C09-4910-996A-636D3FEE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9FB-9098-49A6-B637-77974607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435-0916-4C87-8057-41F2F599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132-4972-47B7-BEFE-55E2278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5DB-2A86-4A1B-BAFB-FB6D55C2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22E-32F0-4DE8-A5A5-72C9AF49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D017-6B61-4BA7-BBA0-AADD88083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aucklandorgan.org.nz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915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ffra"/>
              </a:rPr>
              <a:t>Bernard F.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16360" y="836640"/>
            <a:ext cx="3781440" cy="512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6915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ffra"/>
              </a:rPr>
              <a:t>Bernard F.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13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server" descr="Article image"/>
          <p:cNvPicPr/>
          <p:nvPr/>
        </p:nvPicPr>
        <p:blipFill>
          <a:blip r:embed="rId1"/>
          <a:stretch/>
        </p:blipFill>
        <p:spPr>
          <a:xfrm>
            <a:off x="6877080" y="765000"/>
            <a:ext cx="1104840" cy="2333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10240" y="3357360"/>
            <a:ext cx="327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Dominion, Volume 6, Issue 1764, 31 May 1913, Page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915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ffra"/>
              </a:rPr>
              <a:t>Bern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ffra"/>
              </a:rPr>
              <a:t>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AWNS_19130828_p054_i003_b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5229000" cy="582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277360"/>
            <a:ext cx="2952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r Bernard F. Page, Wellington’s City Organist, who arrived from London last week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en from the supplement to the Auckland Weekly News 28 AUGUST 1913 p05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humbnails" descr="Wellington City Council :Town Hall, Saturday, 30th August 1913 at 8 o'clock. Inaugural organ recital by Mr Bernard Page, City Organist. [Programme cover]. 1913."/>
          <p:cNvPicPr/>
          <p:nvPr/>
        </p:nvPicPr>
        <p:blipFill>
          <a:blip r:embed="rId1"/>
          <a:stretch/>
        </p:blipFill>
        <p:spPr>
          <a:xfrm>
            <a:off x="4464000" y="549360"/>
            <a:ext cx="3834000" cy="597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1629360"/>
            <a:ext cx="367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Wellington City Council :Town Hall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aturday, 30th August 1913 at 8 o'cloc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naugural organ recital by Mr Bernard Page, City Organist. [Programme cover]. 191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915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ffra"/>
              </a:rPr>
              <a:t>Bernard F.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6915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ffra"/>
              </a:rPr>
              <a:t>Bernard F.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server" descr="Article image"/>
          <p:cNvPicPr/>
          <p:nvPr/>
        </p:nvPicPr>
        <p:blipFill>
          <a:blip r:embed="rId1"/>
          <a:stretch/>
        </p:blipFill>
        <p:spPr>
          <a:xfrm>
            <a:off x="4602240" y="765000"/>
            <a:ext cx="3836880" cy="4608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629000"/>
            <a:ext cx="4284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WELLINGTON'S CITY ORGANIST (MR, BERNARD PAGE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cleverly caricatured*, by Mr. W. A. Bowr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Free Lance, Volume XVI, Issue 878, 4 May 1917, Page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6915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ffra"/>
              </a:rPr>
              <a:t>Bernard F.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server" descr="Article image"/>
          <p:cNvPicPr/>
          <p:nvPr/>
        </p:nvPicPr>
        <p:blipFill>
          <a:blip r:embed="rId1"/>
          <a:stretch/>
        </p:blipFill>
        <p:spPr>
          <a:xfrm>
            <a:off x="5580000" y="765000"/>
            <a:ext cx="2286000" cy="3314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78240" y="4365720"/>
            <a:ext cx="3640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ERNARD PAGE, (City Organist, Wellington), By J. Ell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Free Lance, Volume XIX, Issue 1005, 8 October 1919, Page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6915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ffra"/>
              </a:rPr>
              <a:t>Bernard F. 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4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9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ATHOT_header-picture_3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3881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4546440"/>
            <a:ext cx="758952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Effra"/>
              </a:rPr>
              <a:t>Auckland Organ, New Zealand’s largest musical instru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Effra"/>
              </a:rPr>
              <a:t>HIDDEN BEHIND </a:t>
            </a:r>
            <a:r>
              <a:rPr b="0" lang="en-US" sz="1100" spc="-1" strike="noStrike">
                <a:solidFill>
                  <a:srgbClr val="000000"/>
                </a:solidFill>
                <a:latin typeface="Effra"/>
              </a:rPr>
              <a:t>the beautiful 1911 façade is an array of thousands of pipes, dozens of bellows and a network of sophisticated wiring and technology. This organ has gained a reputation as one the world’s finest concert hall instrument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Effra"/>
                <a:hlinkClick r:id="rId2"/>
              </a:rPr>
              <a:t>www.aucklandorgan.org.nz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Effra"/>
              </a:rPr>
              <a:t>, 11 October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9:47:42Z</dcterms:created>
  <dc:creator>Michael Crosse</dc:creator>
  <dc:description/>
  <dc:language>en-US</dc:language>
  <cp:lastModifiedBy>Michael Crosse</cp:lastModifiedBy>
  <dcterms:modified xsi:type="dcterms:W3CDTF">2014-10-15T09:57:53Z</dcterms:modified>
  <cp:revision>2</cp:revision>
  <dc:subject/>
  <dc:title>Slide 1</dc:title>
</cp:coreProperties>
</file>